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BDA11-C17A-4EA9-B78C-8A59652AB2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8638A-0215-4A24-9069-771BF8EEB4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EEE72-8AAC-4C76-9968-84935384D5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517FA-98F4-4033-A0A9-24C1D74A2F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821B3-CCD7-43C8-974E-2AD58085F2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AA69A-8FB3-46D2-BA95-4182B2DC81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669DC-3EA1-4151-B180-26C1E080F6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7F1E7-B323-4981-99FD-3F68B6F6C3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48CC1-E636-4F87-8597-A26C9AAE71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E754A-B8F4-4BB1-8ECF-DDC1DDCB8D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5610A-FD35-4742-BA3A-FB83EAEBB6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84B1C-69CA-497A-B87E-6D3510D830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099ED-DCCD-45F9-A70D-019A865F64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06CCE-DFB9-4032-8AFC-F10BFE1E18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86113-32A4-4E4F-A1B5-C241C2160F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19975-AEBB-4036-BBAC-C757FE2AFC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3F714-5C33-4F98-A50A-2A06D44332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8F5C8-2219-4358-9C6C-7E7320AD91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D44E2-6DA6-4978-AA36-67F6EBCF7F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C9801-9DAD-4A88-9ABB-5FEFF6C140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B2E4-0FA5-43B9-B21E-67A0B5C41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4B69-5F4F-44A8-933D-5758383EE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0E03-508A-456E-A686-A27EA5A3D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9F8C-273A-42F1-BEC5-2C54F622D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EC4DB-4C02-4BD7-B9DE-72FBF2719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23782-33F2-4741-BE17-00B5E08B4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D3673-7283-48C0-AE74-F6A550783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E8C08-B29D-4474-B1AC-D4158E9CE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D8E5F-6942-46B8-B01A-A990DEB1E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691AF-4FC2-473A-A90F-6A6DC6751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2A56F-BC84-47FF-9816-6D2B2131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A200-3268-480D-B754-C73D91175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11918-9159-4E3C-9C9A-709EB510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D1782-8862-4420-AF6B-6559DEC3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4867B-7A01-49DB-9B65-57D57C790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AC5B5-CCCC-43E9-A7AA-24CF6E69F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852EB-2D2C-4A37-AA7E-6FEDEDCA8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86528-E51E-4E9B-ABBB-0C773CD7F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4708E-B48F-462A-A53C-E51452C46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DF733-73ED-46CA-94F4-D2F8D37FB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196C1-04D4-4E69-B9E8-91D26C9E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20B0C-DC59-41EB-9AB4-B2437662E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310A-D701-437C-ACB0-1A46F98D0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1AEE2-D96F-4B1A-8FFA-491717069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E5642-5D0C-45AC-985B-567F56BA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AF60E-3529-4290-9567-F169A108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0FFDF-0A05-40BC-BB7F-D281F044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14A68-3CFA-4DC2-96E6-A155A783C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3DBD2-8AF6-485E-A699-896785A60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FC53C-A477-4723-96FE-600E6CDB0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D8795-7248-4F81-BC62-DF74F3D38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4A3A7-BD6F-4D2D-B662-EE3B551D0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626B6-7F6A-4C4A-8CD6-0DB76E26B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C0A2-3811-4A3C-BCAD-CA01C7847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3EBE1-5910-4B9C-9DB1-D004F78F5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1A203-8968-4D28-9A0F-0A45DD1FF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A38E3-5702-48E3-B219-87E47BB1D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4AFF5-896C-4719-9D42-58AF6D55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B5B91-9B2E-4602-9AC2-E17C9E21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E26C9-2C00-43CE-939D-F51F6A44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BAE18-8D58-4BEC-83D3-1BAC88E4B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4C4A5-A273-4600-897B-D8677E38D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BDC8E-1570-45C4-942D-E1D646E44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A6D8F-98B9-471D-BD84-4B9BB04A7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2A31-7B1C-449D-BC3D-690595396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9ED5D-DE93-448F-8EE4-59D8A7150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0427D-298F-4912-9DF0-1E2A6B4D0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E3FB1-2E97-400E-9A6B-3F2FF312A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02971-769E-4D9C-BB4B-6A9060502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74B34-B3E8-469D-8214-42A38250E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6DB65-FFD2-4F98-9E87-68B36551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81D36-5C2D-4CC6-869E-56EAFE3E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38401-FC90-443E-B4A2-88469E35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C5DB5-D5F4-4229-BDB2-C9C3CCBBB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5C078-8B3A-4529-8002-4E5654F09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6EA4-4487-4D6E-9A98-67E6A9465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C88A8-6B4E-4B54-A306-AB5A25BD5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A514FC-18FE-4F65-88D7-FAC7174FD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78A3C-2DE4-4292-9C02-B12B9945C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61E3F-C43A-4CA8-B9FB-B59A59865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E50E3-070B-4E9A-BB39-737A8F8AA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97EF5-5717-4881-AC8C-B130ACC43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BC0E2-69F5-4D4C-BBBF-B28B9CB54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87729-47C5-4AC1-A21D-01A9F9FF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976A2-DFE2-4FEC-A54C-059386B1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14034-09D6-4A96-ADB6-E467A2B8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9741-549C-4515-ABF5-06305978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90FF9-2667-433A-BE44-A574B75D8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76545-8A3B-4849-8CEF-324C164AB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03FC9-1B41-4088-ADCA-AE4A1E3E3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43C8A-4FA0-4BD2-BF6A-F80DDE52E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B87B7-D6C7-490F-9603-75E116141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922FB-6042-4227-A966-8E2AB14A2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19132A-AD7E-490B-9972-AFD705C25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80C85-378C-4100-B5DD-B1FE54EB2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CFA3CD-5B9D-4BDD-9A30-A012033DD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4B70D8-7A8D-46BD-8F5F-1FFB5F32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D63A-5DDC-4371-BF39-E070A471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C612D-C7A2-4D12-9442-E5D6996F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02A81-3D0A-4F73-B4A7-BDC08134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54BB9-3372-4E4C-9B39-E5C5EEB6B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55BD1B-E1C4-447D-927E-C15003948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1109B-AFB1-403C-8967-A394F7C94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C571-6139-43BA-80FA-BD3B22F6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F6309-FB76-4ED7-985B-FB36B0E7EB04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07A97-485B-4F55-94D2-46391D068F9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Rectangle 11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F3817-EC56-4586-81F1-B3C81C51EE4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989E8-1C62-4731-9627-580248F02F25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2ACBF-18DB-4137-A134-3566ED0B7E4D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F9EC5-3248-4CAE-9029-6D7781C330B8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0C5DD-F88A-4C12-AC5F-CAE4493E4267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396720" y="3157560"/>
            <a:ext cx="8375760" cy="187812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Chapter 21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228240" y="1371600"/>
            <a:ext cx="4419720" cy="49528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4000"/>
          </a:bodyPr>
          <a:p>
            <a:pPr marL="411480" indent="-2995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Hertzsprung-Russell Diagram (H-R Diagram)- The graph which shows the relationship between temperature of a star and absolute brightness of a star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Astronomers use H-R Diagram to classify stars and to understand how stars change over time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0" name="Picture 9" descr="StarsGU_J132_H-RDiagram_sx6475b3"/>
          <p:cNvPicPr/>
          <p:nvPr/>
        </p:nvPicPr>
        <p:blipFill>
          <a:blip r:embed="rId1"/>
          <a:stretch/>
        </p:blipFill>
        <p:spPr>
          <a:xfrm>
            <a:off x="4572000" y="1676520"/>
            <a:ext cx="457200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Nebula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- a large cloud of gas and dust spread out in an immense volume; stars begin their lives as parts of nebula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 star is born when the contracting gas and dust from a nebula become so dense and hot that nuclear fusion start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lifetime of a star depends on its mass; the larger the star, the shorter the lif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grpSp>
        <p:nvGrpSpPr>
          <p:cNvPr id="334" name="Group 13"/>
          <p:cNvGrpSpPr/>
          <p:nvPr/>
        </p:nvGrpSpPr>
        <p:grpSpPr>
          <a:xfrm>
            <a:off x="228600" y="2133720"/>
            <a:ext cx="8458200" cy="3352680"/>
            <a:chOff x="228600" y="2133720"/>
            <a:chExt cx="8458200" cy="3352680"/>
          </a:xfrm>
        </p:grpSpPr>
        <p:sp>
          <p:nvSpPr>
            <p:cNvPr id="335" name="Rectangle 12"/>
            <p:cNvSpPr/>
            <p:nvPr/>
          </p:nvSpPr>
          <p:spPr>
            <a:xfrm>
              <a:off x="228600" y="2133720"/>
              <a:ext cx="8458200" cy="3352680"/>
            </a:xfrm>
            <a:prstGeom prst="rect">
              <a:avLst/>
            </a:prstGeom>
            <a:solidFill>
              <a:srgbClr val="f0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pic>
          <p:nvPicPr>
            <p:cNvPr id="336" name="Picture 11" descr="StarsGU_J138-39_Lives2A-1_sx6997b3"/>
            <p:cNvPicPr/>
            <p:nvPr/>
          </p:nvPicPr>
          <p:blipFill>
            <a:blip r:embed="rId2"/>
            <a:stretch/>
          </p:blipFill>
          <p:spPr>
            <a:xfrm>
              <a:off x="304560" y="2209680"/>
              <a:ext cx="1317600" cy="2025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37" name="Picture 14" descr="StarsGU_J138-39_Lives2A-2_sx6997b3"/>
          <p:cNvPicPr/>
          <p:nvPr/>
        </p:nvPicPr>
        <p:blipFill>
          <a:blip r:embed="rId3"/>
          <a:stretch/>
        </p:blipFill>
        <p:spPr>
          <a:xfrm>
            <a:off x="1589040" y="2209680"/>
            <a:ext cx="1192320" cy="20257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5" descr="StarsGU_J138-39_Lives2A-3_sx6997b3"/>
          <p:cNvPicPr/>
          <p:nvPr/>
        </p:nvPicPr>
        <p:blipFill>
          <a:blip r:embed="rId4"/>
          <a:stretch/>
        </p:blipFill>
        <p:spPr>
          <a:xfrm>
            <a:off x="2755800" y="2209680"/>
            <a:ext cx="1057320" cy="20257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6" descr="StarsGU_J138-39_Lives2A-4_sx6997b3"/>
          <p:cNvPicPr/>
          <p:nvPr/>
        </p:nvPicPr>
        <p:blipFill>
          <a:blip r:embed="rId5"/>
          <a:stretch/>
        </p:blipFill>
        <p:spPr>
          <a:xfrm>
            <a:off x="3784680" y="2209680"/>
            <a:ext cx="2698560" cy="20257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7" descr="StarsGU_J138-39_Lives2B-1_sx6997b3"/>
          <p:cNvPicPr/>
          <p:nvPr/>
        </p:nvPicPr>
        <p:blipFill>
          <a:blip r:embed="rId6"/>
          <a:stretch/>
        </p:blipFill>
        <p:spPr>
          <a:xfrm>
            <a:off x="3048120" y="4138560"/>
            <a:ext cx="2733480" cy="20336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8" descr="StarsGU_J138-39_Lives2B-2_sx6997b3"/>
          <p:cNvPicPr/>
          <p:nvPr/>
        </p:nvPicPr>
        <p:blipFill>
          <a:blip r:embed="rId7"/>
          <a:stretch/>
        </p:blipFill>
        <p:spPr>
          <a:xfrm>
            <a:off x="5778360" y="4140360"/>
            <a:ext cx="212112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2000"/>
          </a:bodyPr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When a star begins to run out of fuel, its core shrink and its outer portion expands. It will become either a red giant or a supergiant, depending on mass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Corbel"/>
              </a:rPr>
              <a:t>White dwarf- </a:t>
            </a: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the blue-white core of the star that is left behind and cools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Eventually will stop glowing and turn into a black dwarf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High-mass stars quickly turn into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Corbel"/>
              </a:rPr>
              <a:t>supergiants</a:t>
            </a: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. When a supergiant runs out of fuel, it can explode suddenly- called a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Corbel"/>
              </a:rPr>
              <a:t>supernova</a:t>
            </a: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Corbel"/>
              </a:rPr>
              <a:t>Black hole- </a:t>
            </a: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the most massive stars may become a black hole when it dies. An object with gravity so strong that nothing, not even light, can escape.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28040" cy="12621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Star systems-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 group of two or more stars; most stars are member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Binary stars-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tar systems with two star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Often one star in the system is much brighter and more massiv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Eclipsing binary-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ne star periodically blocks the light from another sta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wo major types of star clusters: open clusters and globular cluster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Open clusters-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oose, disorganized appearance and contain no more than a few thousand stars; contain many bright supergiants, gas and dus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Globular clusters-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 large grouping of older stars; round and densely packed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3000"/>
          </a:bodyPr>
          <a:p>
            <a:pPr marL="407160" indent="-2962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orbel"/>
              </a:rPr>
              <a:t>Galaxy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- a huge group of single stars, star systems, star clusters, dust, and gas bound together by gravity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Three types: spiral, elliptical, and irregular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orbel"/>
              </a:rPr>
              <a:t>Spiral galaxies- 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appear to have a bulge in the middle and arms that spiral outward, like pinwheels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orbel"/>
              </a:rPr>
              <a:t>Elliptical galaxies- 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look like round or flattened balls; stars are no longer forming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orbel"/>
              </a:rPr>
              <a:t>Irregular galaxies- 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do not have regular shapes and are typically smaller than other galaxies; generally have many bright, young stars, and lots of dust and gas to form new stars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Quasars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- distant enormously bright objects that look almost like stars; active young galaxies with giant black holes at their center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ur solar system is located in a spiral galaxy called the Milky Wa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ilky Way is usually thought of as a standard spiral galax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7" descr="StarsGU_J145_MilkyWay2_sx6974b3"/>
          <p:cNvPicPr/>
          <p:nvPr/>
        </p:nvPicPr>
        <p:blipFill>
          <a:blip r:embed="rId2"/>
          <a:stretch/>
        </p:blipFill>
        <p:spPr>
          <a:xfrm>
            <a:off x="2895480" y="2514600"/>
            <a:ext cx="4226040" cy="39844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6" descr="StarsGU_J145_MilkyWay1_sx6482b3"/>
          <p:cNvPicPr/>
          <p:nvPr/>
        </p:nvPicPr>
        <p:blipFill>
          <a:blip r:embed="rId3"/>
          <a:stretch/>
        </p:blipFill>
        <p:spPr>
          <a:xfrm>
            <a:off x="2895480" y="1676520"/>
            <a:ext cx="422604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dwin Hubble discovered that with the exception of a few nearby galaxies, all galaxies are moving away from us and from each oth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Hubble’s Law-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farther away a galaxy is, the faster it is moving away from u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9000"/>
          </a:bodyPr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orbel"/>
              </a:rPr>
              <a:t>Electromagnetic Radiation- 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Light is a form of this type of energy that can travel through space in the form of waves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orbel"/>
              </a:rPr>
              <a:t>Visible Light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- The light you can see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orbel"/>
              </a:rPr>
              <a:t>Spectrum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- when light is spread out to make a range of different colors with different wavelengths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orbel"/>
              </a:rPr>
              <a:t>Electromagnetic Spectrum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- the entire range of radio waves, infrared radiation, visible light, ultraviolet radiation, X-rays, and gamma rays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22" descr="StarsGU_J119_ElecSpectrum_sx6444b3"/>
          <p:cNvPicPr/>
          <p:nvPr/>
        </p:nvPicPr>
        <p:blipFill>
          <a:blip r:embed="rId2"/>
          <a:stretch/>
        </p:blipFill>
        <p:spPr>
          <a:xfrm>
            <a:off x="762120" y="2819520"/>
            <a:ext cx="78580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0000"/>
          </a:bodyPr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rbel"/>
              </a:rPr>
              <a:t>Telescopes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- Instruments that collect and focus light and other forms of electromagnetic radiati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rbel"/>
              </a:rPr>
              <a:t>Refracting telescope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- uses convex lenses to gather and focus light (middle is thicker than edges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rbel"/>
              </a:rPr>
              <a:t>Reflecting telescope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- uses a curved mirror to collect and focus light; large amount of light into a small area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rbel"/>
              </a:rPr>
              <a:t>Observatory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(a building that contains one or more telescope); often located on mountaintops or in space in order to be above the earth’s atmospher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6" descr="StarsGU_J120_Telescopes1_sx6466b3"/>
          <p:cNvPicPr/>
          <p:nvPr/>
        </p:nvPicPr>
        <p:blipFill>
          <a:blip r:embed="rId2"/>
          <a:stretch/>
        </p:blipFill>
        <p:spPr>
          <a:xfrm>
            <a:off x="609480" y="2471760"/>
            <a:ext cx="4248360" cy="37242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7" descr="StarsGU_J120_Telescopes2_sx6466b3"/>
          <p:cNvPicPr/>
          <p:nvPr/>
        </p:nvPicPr>
        <p:blipFill>
          <a:blip r:embed="rId3"/>
          <a:stretch/>
        </p:blipFill>
        <p:spPr>
          <a:xfrm>
            <a:off x="4435560" y="2416320"/>
            <a:ext cx="411480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57200" y="1447920"/>
            <a:ext cx="8153280" cy="228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7000"/>
          </a:bodyPr>
          <a:p>
            <a:pPr marL="424800" indent="-30924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Astronomers classify stars according to their physical characteristics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olor, temperature, size, composition, and brightnes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Brightness of a star depends on both its size and temperature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2" name="Picture 5" descr="StarsGU_J127_StarSize_sx6471b3"/>
          <p:cNvPicPr/>
          <p:nvPr/>
        </p:nvPicPr>
        <p:blipFill>
          <a:blip r:embed="rId2"/>
          <a:stretch/>
        </p:blipFill>
        <p:spPr>
          <a:xfrm>
            <a:off x="1523880" y="3505320"/>
            <a:ext cx="627696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4000"/>
          </a:bodyPr>
          <a:p>
            <a:pPr marL="411480" indent="-29952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How bright a star looks from Earth depends on both its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orbel"/>
              </a:rPr>
              <a:t>distance from Earth 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and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orbel"/>
              </a:rPr>
              <a:t>how bright the star truly is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, therefore the brightness of a star can be described in two ways: apparent brightness, and absolute brightness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orbel"/>
              </a:rPr>
              <a:t>Apparent brightness- 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brightness as seen from the Earth; can not tell how much light a star gives off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Corbel"/>
              </a:rPr>
              <a:t>Absolute brightness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- the brightness the star would have if it were at a standard distance from the Earth; can be calculated by astronomers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Light-year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- a unit astronomers use to measure distances between the stars; the distance that light travels in one year, about 9.5 million million kilometer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Parallax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- used to measure distances to nearby stars; the apparent change in position of an object when you look at it from different plac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2" descr="StarsGU_J131_ParaliaxOStar2_sx6470a3"/>
          <p:cNvPicPr/>
          <p:nvPr/>
        </p:nvPicPr>
        <p:blipFill>
          <a:blip r:embed="rId2"/>
          <a:stretch/>
        </p:blipFill>
        <p:spPr>
          <a:xfrm>
            <a:off x="1447920" y="2286000"/>
            <a:ext cx="3138480" cy="27432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3" descr="StarsGU_J131_ParaliaxOStar3_sx6470a3"/>
          <p:cNvPicPr/>
          <p:nvPr/>
        </p:nvPicPr>
        <p:blipFill>
          <a:blip r:embed="rId3"/>
          <a:stretch/>
        </p:blipFill>
        <p:spPr>
          <a:xfrm>
            <a:off x="4575240" y="2286000"/>
            <a:ext cx="3146400" cy="27432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1" descr="StarsGU_J131_ParaliaxOStar1_sx6470a3"/>
          <p:cNvPicPr/>
          <p:nvPr/>
        </p:nvPicPr>
        <p:blipFill>
          <a:blip r:embed="rId4"/>
          <a:stretch/>
        </p:blipFill>
        <p:spPr>
          <a:xfrm>
            <a:off x="1447920" y="5029200"/>
            <a:ext cx="627696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1T22:30:43Z</dcterms:created>
  <dc:creator>Alicia Arangio</dc:creator>
  <dc:description/>
  <dc:language>en-US</dc:language>
  <cp:lastModifiedBy>Falcon School District 49</cp:lastModifiedBy>
  <dcterms:modified xsi:type="dcterms:W3CDTF">2009-10-27T17:11:56Z</dcterms:modified>
  <cp:revision>5</cp:revision>
  <dc:subject/>
  <dc:title>Stars and Galaxies</dc:title>
</cp:coreProperties>
</file>